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75D5-F075-4F3C-90A6-9EEF9E52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A778-0993-4E41-A8EB-D9C9380EC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56429-58EE-4FBF-8358-DE7CF86A5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45709-CC6C-4CDF-A66C-E371BC8B8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8CC95-8857-44AA-8DCB-F49B39302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6C8B3-9ACF-40FD-AB62-548B1E7C7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C7F3E-B159-4814-BDA7-5A940EFB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B45CE-2FCC-4D25-9BF3-B94D401CB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67379-2CB1-42F6-9F50-FC34F0F4D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B9445-59D5-4D82-8D17-BDDF1039D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F6FB-2247-4400-A16D-49C84912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A8779-0A4E-4FA2-A7BF-8BF0D236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F71CB-F2E2-4575-A1AF-23CA6FC3B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CB8D-E88A-4E72-B3D2-2560C650F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00B27-F3C9-48DF-B86E-E1C49279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A71C6-A9EB-4AAD-A52F-775EDD667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35DFE-64DE-4721-8942-FF887BBD8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66F5-845F-44DF-8476-C832C9DE7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6DC5-BA51-4B1E-B2AB-E6F79B90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62894-ADAA-49EA-8782-850AF9E7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4C71-AB7E-4856-9F3C-6B4B456E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A895-5693-40A4-924B-EC86FBF7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9C42-5978-4066-BE52-F938B95C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DDCC-A800-4A99-AE04-561947266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6538-5142-4007-8E88-680ED8DC900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5415-E11C-441B-8F02-579DA61D450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promo.net/pg/" TargetMode="External"/><Relationship Id="rId2" Type="http://schemas.openxmlformats.org/officeDocument/2006/relationships/hyperlink" Target="http://www.firstgov.g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reativecommons.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Basic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hael Lorenz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 Examples</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Gutenberg (many sites including </a:t>
            </a:r>
            <a:r>
              <a:rPr b="0" lang="en-US" sz="2800" spc="-1" strike="noStrike" u="sng">
                <a:solidFill>
                  <a:srgbClr val="ffcc66"/>
                </a:solidFill>
                <a:uFillTx/>
                <a:latin typeface="Tahoma"/>
                <a:hlinkClick r:id="rId1"/>
              </a:rPr>
              <a:t>http://promo.net/pg/</a:t>
            </a:r>
            <a:r>
              <a:rPr b="0" lang="en-US" sz="2800" spc="-1" strike="noStrike">
                <a:solidFill>
                  <a:srgbClr val="ffffff"/>
                </a:solidFill>
                <a:latin typeface="Tahoma"/>
              </a:rPr>
              <a:t>) places classics in the public domain online which are scanned by volunteers.</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S Federal Government search engine FirstGov (</a:t>
            </a:r>
            <a:r>
              <a:rPr b="0" lang="en-US" sz="2800" spc="-1" strike="noStrike" u="sng">
                <a:solidFill>
                  <a:srgbClr val="ffcc66"/>
                </a:solidFill>
                <a:uFillTx/>
                <a:latin typeface="Tahoma"/>
                <a:hlinkClick r:id="rId2"/>
              </a:rPr>
              <a:t>http://www.firstgov.gov/</a:t>
            </a:r>
            <a:r>
              <a:rPr b="0" lang="en-US" sz="2800" spc="-1" strike="noStrike">
                <a:solidFill>
                  <a:srgbClr val="ffffff"/>
                </a:solidFill>
                <a:latin typeface="Tahoma"/>
              </a:rPr>
              <a:t>) indexes public domain government info.</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works published prior to 1923 are not online and are unlikely to be put online in the future do to the costs of scanning and hosting and the difficulty of profiting from this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Fair U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material for criticism, comment, news reporting, teaching, scholarship, and research.</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tions apply.  This includes consideration of the purpose, nature, amount and substantiality, and the effect of the use on potential value of work.</a:t>
            </a:r>
            <a:endParaRPr b="0" lang="en-US" sz="2400" spc="-1" strike="noStrike">
              <a:solidFill>
                <a:srgbClr val="ffffff"/>
              </a:solidFill>
              <a:latin typeface="Tahoma"/>
            </a:endParaRPr>
          </a:p>
        </p:txBody>
      </p:sp>
      <p:pic>
        <p:nvPicPr>
          <p:cNvPr id="177" name="" descr=""/>
          <p:cNvPicPr/>
          <p:nvPr/>
        </p:nvPicPr>
        <p:blipFill>
          <a:blip r:embed="rId1"/>
          <a:stretch/>
        </p:blipFill>
        <p:spPr>
          <a:xfrm>
            <a:off x="4876920" y="1676520"/>
            <a:ext cx="396216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re Fair Use</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an use excerpts from a book to write a review of it.  However, you can’t reproduce whole chapters of the book for reviewing purposes without permissio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lass dealing with film studies can screen a movie without payment for study purposes.  However, no admission can be charged and only students in the class can attend the screening.</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icult area that can get people in trouble.  Consult an attorney if you are in doub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lternatives to Copyright</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es – Creators can retain copyright but allow people to use content under certain terms.  For example, the copyright can give schools to use content for free and without permission. Example: (</a:t>
            </a:r>
            <a:r>
              <a:rPr b="0" lang="en-US" sz="2800" spc="-1" strike="noStrike" u="sng">
                <a:solidFill>
                  <a:srgbClr val="ffcc66"/>
                </a:solidFill>
                <a:uFillTx/>
                <a:latin typeface="Tahoma"/>
                <a:hlinkClick r:id="rId1"/>
              </a:rPr>
              <a:t>http://www.creativecommons.org/</a:t>
            </a:r>
            <a:r>
              <a:rPr b="0" lang="en-US" sz="2800" spc="-1" strike="noStrike">
                <a:solidFill>
                  <a:srgbClr val="ffffff"/>
                </a:solidFill>
                <a:latin typeface="Tahoma"/>
              </a:rPr>
              <a:t>)</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License – Others can use but must credit original source.  Further, any version that others create must also have the open license and be useable by others as well.  Example: (http://www.wikipedia.org/).</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right in the News</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bject to recent extensions of copyright terms.  Recent legislation extended copyright terms keeping pre-1923 as the beginning of the public domain.  Disney and other corporations lobbied for this but it also erodes the concept of public domain as content is staying protected longer.</a:t>
            </a:r>
            <a:endParaRPr b="0" lang="en-US" sz="2400" spc="-1" strike="noStrike">
              <a:solidFill>
                <a:srgbClr val="ffffff"/>
              </a:solidFill>
              <a:latin typeface="Tahoma"/>
            </a:endParaRPr>
          </a:p>
        </p:txBody>
      </p:sp>
      <p:pic>
        <p:nvPicPr>
          <p:cNvPr id="184" name="" descr=""/>
          <p:cNvPicPr/>
          <p:nvPr/>
        </p:nvPicPr>
        <p:blipFill>
          <a:blip r:embed="rId1"/>
          <a:stretch/>
        </p:blipFill>
        <p:spPr>
          <a:xfrm>
            <a:off x="4848120" y="1600200"/>
            <a:ext cx="3638520" cy="453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P3 Files</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of course, the widespread piracy of music and movies has resulted in a crackdown by the respective industries.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hole MP3 issue (and the bad attitudes which consumers have towards copyright) has convinced many publishers to distribute content in copy protected or non-computerized forms.  Print is not dying…it is making a comeb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ead…</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read the following short articl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rthouse Rock by Steve Levy an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 of Tune by Barney Gimbel and Sarah Childres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suing pirates work to stop pirac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music industry out of touch with consumer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matter moral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gend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Copyrigh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Be Copyrighte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Long Does Copyright Las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n the Public Domain?</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Fair Us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ernatives to Copyrigh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in the News (MP3s, Copyright Ex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Copyright?</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yright allows authors, musicians, artists, etc. to make money off of their labor.  It prevents others from taking there work for free. It also prevents people from altering the work without permission.</a:t>
            </a:r>
            <a:endParaRPr b="0" lang="en-US" sz="2800" spc="-1" strike="noStrike">
              <a:solidFill>
                <a:srgbClr val="ffffff"/>
              </a:solidFill>
              <a:latin typeface="Tahoma"/>
            </a:endParaRPr>
          </a:p>
        </p:txBody>
      </p:sp>
      <p:pic>
        <p:nvPicPr>
          <p:cNvPr id="158" name="" descr=""/>
          <p:cNvPicPr/>
          <p:nvPr/>
        </p:nvPicPr>
        <p:blipFill>
          <a:blip r:embed="rId1"/>
          <a:stretch/>
        </p:blipFill>
        <p:spPr>
          <a:xfrm>
            <a:off x="4876920" y="1981080"/>
            <a:ext cx="350496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f There is No Copyright…</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motive for creative endeavors (money) disappears.  If authors can’t make a living writing, most will not write.  If a record company can’t profit from a band, they will sign fewer bands and cut loose the money losers.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copyright exists but can’t be enforced, the above still happens eventually.  The end result is less creative content and hard to pirate distribution methods become preferred like print and closed databa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Can Be Protected?</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matic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reographic Work</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torial, Graphic, and Sculptural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on Pictures and AV</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nd Recording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chitectural Wor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at Does Copyright Give </a:t>
            </a:r>
            <a:br>
              <a:rPr sz="4000"/>
            </a:br>
            <a:r>
              <a:rPr b="0" lang="en-US" sz="4000" spc="-1" strike="noStrike">
                <a:solidFill>
                  <a:srgbClr val="dbbd71"/>
                </a:solidFill>
                <a:latin typeface="Arial"/>
              </a:rPr>
              <a:t>Rights Holders?</a:t>
            </a:r>
            <a:endParaRPr b="0" lang="en-US" sz="4000" spc="-1" strike="noStrike">
              <a:solidFill>
                <a:srgbClr val="dbbd71"/>
              </a:solidFill>
              <a:latin typeface="Arial"/>
            </a:endParaRPr>
          </a:p>
        </p:txBody>
      </p:sp>
      <p:sp>
        <p:nvSpPr>
          <p:cNvPr id="16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reproduce the work.</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prepare derivative work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distribute copies for s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perform AV works publicly.</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display musical and artistic works publicly.</a:t>
            </a:r>
            <a:endParaRPr b="0" lang="en-US" sz="2400" spc="-1" strike="noStrike">
              <a:solidFill>
                <a:srgbClr val="ffffff"/>
              </a:solidFill>
              <a:latin typeface="Tahoma"/>
            </a:endParaRPr>
          </a:p>
        </p:txBody>
      </p:sp>
      <p:pic>
        <p:nvPicPr>
          <p:cNvPr id="165" name="" descr=""/>
          <p:cNvPicPr/>
          <p:nvPr/>
        </p:nvPicPr>
        <p:blipFill>
          <a:blip r:embed="rId1"/>
          <a:stretch/>
        </p:blipFill>
        <p:spPr>
          <a:xfrm>
            <a:off x="457200" y="1828800"/>
            <a:ext cx="38098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Long Does Copyright Last?</a:t>
            </a:r>
            <a:endParaRPr b="0" lang="en-US" sz="40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pyright last for life plus 70 years for individuals for anything on or after 1978.</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pyright lasts for 95 years for corporate authors after publication for anything on or after 1978. (It is 120 years after creation if not published.)</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published before 1978 and after 1923 are protected for 95 year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right is Automati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no need to include a copyright notice. (©, 2003).  However, it is a good idea to do so due to ignoranc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pyright is in force when the work is “fixed” which includes saving to disk or writing it on paper.</a:t>
            </a:r>
            <a:endParaRPr b="0" lang="en-US" sz="2400" spc="-1" strike="noStrike">
              <a:solidFill>
                <a:srgbClr val="ffffff"/>
              </a:solidFill>
              <a:latin typeface="Tahoma"/>
            </a:endParaRPr>
          </a:p>
        </p:txBody>
      </p:sp>
      <p:pic>
        <p:nvPicPr>
          <p:cNvPr id="170" name="" descr=""/>
          <p:cNvPicPr/>
          <p:nvPr/>
        </p:nvPicPr>
        <p:blipFill>
          <a:blip r:embed="rId1"/>
          <a:stretch/>
        </p:blipFill>
        <p:spPr>
          <a:xfrm>
            <a:off x="4572000" y="175248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thing in the public domain is useable by anyone in any way that they want.  No one owns it.</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thing published before 1923 is in the public domain.</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federal works are in the public domain.</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can choose to put work in the public domain by including a notice that the item is in the public dom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3:30:00Z</dcterms:created>
  <dc:creator>Reference</dc:creator>
  <dc:description/>
  <dc:language>en-US</dc:language>
  <cp:lastModifiedBy>loren1mg</cp:lastModifiedBy>
  <dcterms:modified xsi:type="dcterms:W3CDTF">2003-09-29T15:21:03Z</dcterms:modified>
  <cp:revision>11</cp:revision>
  <dc:subject/>
  <dc:title>Copyright Basics</dc:title>
</cp:coreProperties>
</file>